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CBB-136B-4ACA-9446-C3C89996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093-FFCE-48C0-A75C-E5429496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0D9-5A21-4939-835A-22104C8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A20-66BE-4B5C-93A0-A4D4C1E7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89CF-D964-4736-96C6-B093110C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251E-4A4F-43E9-BCD4-A9BDF6A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D2FC-D03E-4444-B4B2-D46D8CC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CA11-FBE5-43E1-BE60-EC5B883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12E0-8B2E-4EF1-84EB-34AFE64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9C6F-9061-4ADF-8848-3ECE246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5ED9-8F58-4A8D-A558-E5A1E50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CE-2451-45A4-9F13-92CD31BE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FBB-0A2D-4284-B991-9DB776A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4BB7-750C-4F76-80B6-C207520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711-B430-4994-BF54-E4FBF72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B38-BE8E-4295-8209-2C855668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96CB-509F-475C-841C-641DFB8B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655-7B9E-42BD-AACD-C6FA64F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F84-D4DD-4900-B084-6F5ACF6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CBF-C8E4-4FDE-A5B2-75B3F56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BBE-B262-48D4-B2A3-C7743BBF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E01-0611-4905-8AD0-50167CC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603-EF82-4499-A842-6CBFC2E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182-C03B-4345-B3A8-E4910F8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51E-C14C-45B9-AD41-87379B31273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ACE-46A4-4284-9608-CD638B9A2BB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Learning Technique by Stephanie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Learning Technique is Abstract Rando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 like to dream, I’m creativ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able to do many things at one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see situations in shades of g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do not like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sensitive to ot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’m able to follow guidelines with little stru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ft\Right Side Domin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dominate side is ri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cre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o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n Abstract thin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y Learning Sty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learning style is Auditor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rn better by someone saying things aloud to 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learn by hearing ta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listening to someone out lo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y Type of Intelligence 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 Type of Intelligence is Creative Intellig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means tha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creative in the a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 able to solve to solve answers to many problems quick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I like to learn by experiencing activiti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ill this information help me when I grow up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nformation will help me when  I find a job. I could look closer at the details of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b,and, if it fits me,I will try to get that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doesn’t, I will look for one that suits 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 have learned summed u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have learned a lot about the way my brain works. I have taken tests that have given me result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am very cre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learn by audio the b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am right-side domina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 the things I have learned about        myself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will this help me in school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will help me in school if I am working on a project, I will make one that has to do with my techniques and my type of intellig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would be much easier for m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6:05Z</dcterms:created>
  <dc:creator>student</dc:creator>
  <dc:description/>
  <dc:language>en-US</dc:language>
  <cp:lastModifiedBy>Joni George</cp:lastModifiedBy>
  <dcterms:modified xsi:type="dcterms:W3CDTF">2010-11-23T16:18:38Z</dcterms:modified>
  <cp:revision>7</cp:revision>
  <dc:subject/>
  <dc:title>My Fifth Grade Powerpoint by Stephanie Ann Rhodes</dc:title>
</cp:coreProperties>
</file>